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636-1C95-40AE-A28A-FEE2F679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20F-519E-4CC6-BD5D-5A7B5E7B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37C6F-42AE-4AF8-98B9-EEB1EC35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467F7-A2AA-4ECB-9BDB-B3A7324E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48AE0-5E2F-49AE-8D27-5D699440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8F3A8-631B-46AC-8C95-18C35EE6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25BE4-9FB2-41E0-B91B-50DC8A91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2C51F-825A-4ABE-BD64-FAF03C5B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80541-FCE1-44DE-846F-51FB200F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259F1-0587-4644-AB8D-6C1CC512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90886-F6FB-4543-80C9-5BC0A957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D9A65-30B4-45CB-8BBD-4FEED1BA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CBD-1B3D-4840-A57D-1E759BBA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C153C-D649-4A5D-B14A-983AC266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98922-AC70-40DF-A4C9-EB9F7CE1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F6956-A6B5-4BEE-B34B-B44581BE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A57FA-5F56-4774-8181-4A40D142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01A9E-85CC-4AB0-8E96-895A9697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B0DEB-2144-4C80-B1AB-268B4145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57D47-1162-42EC-B734-368E46AC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F20AC-7C56-4271-A269-C518550D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89366-E8AE-4533-B04D-01DFD6BB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ADF17-98C7-40B7-B43C-3521D069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97A-ADC2-45A1-BD52-EEF6ABB0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4E59A-0B42-438F-80D0-9E485B35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16A57-04F4-447A-B93D-2A6B4475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B6C65-FE7D-48C8-92B0-647749D4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79000-6DF7-46BF-9BA2-B633DC6B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5DECC-402A-4342-9D4E-8AF7827B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274BB-0CFD-4475-AAF4-29A3F81A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D78AF-9056-46C0-9511-92AD2224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E6223-96FA-4A6F-9E41-785FED71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E1CC6-8F77-4D9D-9DCB-B21E78F6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956D6-4675-4503-9B2F-557383A8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A42E-7AB4-4ECC-BCE2-F4AD5015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5AE0A-5B19-4B3E-89F7-757160E5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F27EE-BBB8-4CED-A67C-AD05D8F8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AFAEF-8B8F-483B-BF62-3181A9DC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A650F-ABFF-4E73-9AEF-89850272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D8E42-8447-4D14-AAD5-06D0D30A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8C46D-3E59-4AC6-8BC8-E3C7FB55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E89A3-5E4F-4C12-86F4-9EDA7393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D429D-13CC-4C37-A692-399D0F01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E1A00-10D9-443D-B634-D1D40288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BB4AB-66FC-4A61-A28A-C16A4DF9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4F24-8F88-498B-ACDC-D70A6BC5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C9BAA-175A-4B86-BE0A-50663C19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60F2B-4F41-4F22-B6E6-570DC38E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61E82-6F7F-4777-8048-2E91EAF0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5245A-FBD1-4855-A80A-091DC33C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BF9C1-A12F-44B1-8A9A-9958313E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2E578-4FB3-4183-8904-8B2F5BEA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0D45BE-FD58-4553-82AD-D7B5B397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9FA583-2BA8-4482-9CEF-B52EAF15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C7EAC-390A-4D5E-86C8-D2E998B2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10C06-9ADB-4193-A10D-85454696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2B10-43F3-48EF-93CF-516FDF04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3F78A-8E96-4C7D-A906-3812F821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9B075-1A5A-4A40-9101-4B7E10FC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90AA1-4785-4CC6-A04F-3D726180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BB2DE-2E10-47E6-BF13-CD179A96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69B17-5943-46C0-8C6D-D452E2C9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51DFC-3C99-4E10-99AF-2AF4361E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407B6-3A09-4D73-B531-01B30715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D4B397-97D0-4554-B330-3493AD2B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5DF4B-7C4F-46C5-9086-516B8A63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6B9A2-8C95-4477-9B86-0B437793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428F-EF7A-4B90-8985-C697C3F6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BA4595-C6F3-4484-9E75-7AE127F7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AA1DBF-CB14-4DA5-A4F5-14467754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87345E-63FE-4C30-8159-8EC346D5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D5C22B-1E31-4B85-A322-4CC7E10B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4AA4AC-EA85-4BFB-8404-52CB917B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BA0704-4331-4EC8-B44D-C578C6C1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935F84-78E4-4812-A769-F6B36123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1A7D5-2694-4F8A-8C30-C0EBE4EF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908A5E-F7D4-42A5-A589-96D5F9EC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228607-9FD1-498A-9F97-C29A2CD0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8AFB-A0A2-4189-B4EE-89CD7A61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21DD79-2819-4067-9322-0220C26B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A0A035-FFD2-48EA-A688-9BC17EE7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DD7F6B-DBB7-4C6B-9A7D-4D70A8BF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D7AE42-0E89-4250-AF45-8FDE379C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5E72D-801E-45C2-954C-F6AD5215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322C29-F9A8-4200-A738-8B556995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FAF35A-A85E-478E-B5DC-E39F94F5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F0CB97-9251-4165-BEB0-71D717C9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6F634B-FA61-4B57-A92D-F2C7B552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2C9B23-4A1B-4F6D-837C-0A712FC9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6D9F-5B57-4B49-8FF4-6C4F51F1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31C462-DFAF-4845-8ACC-3745CF89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720962-7261-4546-8434-D33563C7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2668BD-09A5-47FD-B019-B556CF75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B184D0-029E-47B9-B703-07B7360F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34C95E-DD11-4D53-8745-309D0AE4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8AC168-B04E-4E64-8282-99F482E2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6BCADD-ABC4-4626-B9BC-C36F3DCD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BB9B31-2839-4A82-880C-CBA49E4F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532574-54C2-4591-9B6A-76A2AC83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1D66C-3C0C-4955-B63C-5652D5A2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2151-EDE8-4661-AC79-03CA72D4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19D0C3-F310-4B76-BC11-213439A2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45AE82-D24B-4BD4-B4F9-F74C7FC6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84BEAC-725E-44B0-996D-11C07355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C1D859-3570-475C-8CF0-65523DE5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A22DFE-B32A-49CE-B519-0B5D9D2D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2D9D74-8EE2-45F6-BE57-A1E49346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D92540-7DF8-414F-AC51-336186EA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A8FC5E-EC94-4F8D-BF3C-4DAA906A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915240-25D0-4FC6-9CC5-EBEEF264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DFADFA-6963-40F5-87E6-263B9365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A1F-385D-4661-9527-88E6886D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1C49-1B5E-4016-AFD8-F9EA48C5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5A59B1-C520-4C4B-9390-791F65EA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00B11A-48D4-4C6D-9454-687FC6CD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AF4899-6250-42BC-8A1B-250D31C8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5DB803-F8D2-432D-BDD3-12781196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259A84-534B-4FBE-93C8-6894005C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9E6AA2-1125-4F4F-A14A-F455F05D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FB19AA-A411-46E4-816A-222853A3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4C1E48-7534-4ED8-903F-A47460EB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15FB67-F03C-4CCD-98F6-B94B2D02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D42309-4BD4-4650-A433-3256D55E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E583-909A-4AC2-94A9-31271661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E24568-AE1F-4E56-8914-61FFCD0D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BDE5D4-C9CC-4003-B8E5-5C09916E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6B396E-8610-4850-AC1F-CABC4D43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219A9C-4B8F-4567-A08C-33A1CE1F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CED9E4-4E97-4932-84E5-E9495AC1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68DBF7-6379-48CE-B536-A0C68DDA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C77806-ECFC-4EB0-A3BE-1D4FC454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B6EC00-C48C-4BE8-9630-4F2EFDFE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A102B5-E25F-4104-AAD1-B3524D64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12CA1A-B2F4-49F8-BE93-232B3654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3B94-41B1-4F48-AC6B-11606B78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4E35E3-A510-4531-BD74-0586B81A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C748F9-B4ED-4BA4-9EEB-47B1D7E7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3034A5-BA9E-45AB-988D-A30FECC9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12D804-6612-4EEF-B566-9DF62D9A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70057E-7EA8-4AED-8836-836C3A5D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7A4606-48F9-4304-9BCE-035469B4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63FCE5-CDB7-4475-9550-4ED96939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B191A6-3129-4F98-9E89-E501796B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097712-1EEB-4800-A3DF-4069DED8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16726D-F075-4DC0-9897-822D95B2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E186-AFAE-4268-86AE-A13CD92F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A0F6B4-8302-4353-BDF9-93C2559B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E39EC0-DCBE-4C3E-ACB6-C5239BD3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EDB660-143A-4E02-A2B7-88BA2BEF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E184E0-4906-4FAA-A467-A7DF9DA6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BC08CF-066C-4956-A7E2-9874BAE3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43A32B-9A8D-4BF0-88FB-37302BF0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FA2ED8-0710-4A08-A8FB-2D12E5EB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609D14-0BD7-4669-9308-F60CC622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3936F2-761E-4A46-BCCE-E5DC071B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447032-DDBC-41E4-B08D-200FEFF7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51CC-00C6-425C-A48E-6811AE5D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56ED3B-2430-4E4D-B9CE-2D7812E4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F0A887-ACA5-4743-9FE1-7CC1C6EA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976FD9-75DA-4FEC-B95F-37E7B528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36FFD3-CA94-40EF-BE8A-D852AF18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A639B4-C963-4EB1-A7A2-C1E9A33E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2AFF44-7467-4528-B6E2-1FD7A91B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C60737-1A4E-4C07-AE3A-285D1F09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2D65E4-C0A6-4460-BBCA-5609ABEF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72CB4B-9C24-484D-8A67-88555B91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A5C0A1-28B1-4379-8072-33A4211C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429E8-A665-4634-B04E-39BE75B3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DFEABB-65B2-4A03-B518-9D2B3A1D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CDC849-9DBB-4205-9778-B0DED64D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295C6E-0FF7-43BD-8BB6-D60E80FA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2A739-3B42-470D-9D70-20262BF5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0A2B9-7266-441A-A369-7CBCE089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52E07-4E7C-4267-824B-CA156652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66B2F-C0B6-4811-854A-4A94A0CE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824A-746A-4CE7-90D7-089B8315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154A8-E16B-4D06-944A-10D188CB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4BFC2-985D-404C-AD2B-9F1A891F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04BE-6841-4943-A657-4B83FDA4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43743-1B0B-4C73-89D8-2E87D7D3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45F4D-1CED-46B7-BB99-9054ADE4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CF705-03AF-4CE9-80AF-85B3121B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B1235-428A-47E5-AB16-60AFCDE1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0E529-93D9-4BD3-8E89-0F930604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EBF83-A761-400C-A0DB-248BCF1D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6A4F8-1CCA-477D-95F8-C0A1706A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1A9E-785D-40B6-B91F-F56DB213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55B4C-C5D5-42B2-A727-88B25DCE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50BD7-8B58-4A5C-821E-F8DFEC26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65CEA-7757-45EA-8899-938E32F6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157A2-1C68-4588-83F6-1D0866B2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3798C-B35B-4D54-A809-0634B7EF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9A688-9198-4D61-9458-F96EE117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16649-6950-403E-B9CE-03F56A69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C0D63-AA65-471D-8B20-FF071869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5F99C-A696-4336-A5F3-9EC178F2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8A333-D16C-4595-82C2-A0E57E5E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BC5-EEE5-4AE9-8073-4E32EDB2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9A980-C1AC-440D-B954-B15B453A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B692E-00EB-4982-9FA5-3C0AC00D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484EF-E755-49E3-A809-A0A84498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7C5C8-24A6-4471-ADA8-B9571133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B1FCA-FCC4-4E6D-9BE8-51ADB351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2D748-C6F5-4398-9177-B0590642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15C80-84E3-4CE4-8986-9AB25D93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9EC1A-B4C2-4FA1-90EA-70695FD0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7B60D-50A0-426C-A810-63BDD9A8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78773-0BDD-483C-BFEF-B340B7BB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A155-C6FD-4D79-AFE9-012CEA2B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B6B67-87F0-441C-BE24-C81BBBD8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B0EDB-DE18-4387-8998-B76AA994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120B4-9BE3-401B-8EE0-0B828E24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CB630-DAD7-4D4E-A340-81C2E3D8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18601-B87F-4B4F-9705-D61D8313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197CA-9025-447F-A323-8B62C02A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CE307-5EB6-4D67-9768-751A7265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DA074-6405-4FD1-A282-23391350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F03B8-9FD6-42AF-A8E6-F6E853C0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40937-4DCE-483D-8BF6-D4EF53A7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4C6-D042-449A-B830-96BFFC6B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9B2A2-7CC9-4060-95F8-27B30968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265C9-C3E7-4946-9612-BCBD2704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C18E6-B279-4A62-ABAC-B7555E96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D9F17-E265-4B71-9DC3-050513AF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A62CF-294D-45BF-BBA3-E4BE7D1B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30585-1C1D-4546-849E-C2972DC3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6C22C-72A2-43BA-AD47-146EBF96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D9674-299E-496A-BF61-A38978E6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3AF24-16C7-4D25-BF63-FA1CC49B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5F646-9173-4427-AB0B-2B9C6AF5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6AB-F0F2-4818-8A1B-6B4B8EB3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48F15-2C38-4DDF-87F5-359025E1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25171-C986-403D-A0C0-69815336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E98E3-BEFD-4D40-B0BB-BA4B31CA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167EA-D936-43B4-BB6C-211C1EC1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9165A-0FDC-4BCF-B6A0-3C678434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AC7A5-DAA4-4843-A685-C0D8F261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9740F-BA16-4E6C-A5C1-828C8200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9B4E7-08C8-41F7-AABC-72231502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A059F-731E-4B5F-B90F-4A8FF3F5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6886C-9EE5-4351-B6D8-F7BF7B7E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59B-077A-40D0-A508-FFD34349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3D7FB-448F-44E1-8161-FD5DDE8E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02AB2-C3D8-44F2-A6F2-E1C474C9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9598E-730B-4ACA-AF42-6855D10C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F10DA-F35C-4A3D-A966-E9506D59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1B8BC-B2AD-4D4B-A8B7-2CF35D80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96227-A9D4-448F-9774-3AE303F6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C4625-31A9-43BE-9FEF-0F07285D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57154-0173-4CC4-95FC-82C2AA06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81031-2D8E-45E8-9901-196421B0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35360-10F4-4C11-9C99-5CAC28A5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FD7E-787F-4E51-B15F-AF155EC6D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B416-257B-42C8-92F5-A8B6427F80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58E3-0AE6-4283-A84C-E94180EB06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89A0-35FF-4D5C-8CC7-03DFEFBEA2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E0A7-0EED-4290-8C1D-F9C4E7794F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ECA8-CBE1-466B-91C8-1A9110A275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55C2-2408-41AE-B57B-99F94BE8D6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AF07-CAD7-4D89-9761-DA19C3A7EE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32D2-4D58-4CFC-9AB0-ED0FC89565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6B12-F4D2-47E8-BB53-22B72098FE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2567-69ED-4E9E-956B-EBE74BD2DA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4A54-17BF-481C-88B0-7B1D522409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8F5D-636D-48D2-895A-FB897B17F3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F070-150E-4B7E-A0E9-D3F8E9A234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4CEC-FAE0-4468-806F-BC8D2AD009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81F4-0851-48CC-A24B-4E919A1075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9B4A-0CAF-43CF-A169-8BB7E9788C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ED38-B8B0-4BDD-8E73-EF57494766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E6C1-0A69-4BE5-9262-7F6B584248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F8F4-3C59-434C-B7CA-BF3B973418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9451-E4B0-470C-8D6E-6B68939EF8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DAFE-86B3-4D5C-AA49-C561860022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6171-3A79-45D3-ABC8-086779B5E6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A03B-1C7F-4400-8448-0B3BA6F7C5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F41D-C026-4DA8-9A4B-E46591EF5C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E2F7-390B-489F-9B1B-8F38045D22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48EE-FA67-4796-B910-E610C1457C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D083-44C4-488B-A5F3-956780DC4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5A95-F417-44DD-A840-2192F62DFB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46F0-9785-4A8A-A5DB-A8B8F60CAD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62E1-176A-4574-83BB-F19405AB64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60E5-8E0F-4EFB-916B-FCF19AE813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E8CD-A734-4788-9682-655BFAE8A0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0FDF-DB5A-46FA-8263-BF83366018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30EA-4634-4957-BD10-6A08D19F2F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0932-0DDA-4A23-9B1F-0A6FF51011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3B39-833A-47F9-AE70-6108B8211A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6AB7-2A60-45EF-A673-1AB5E34DDE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6D44-65FE-4E5B-B7A7-07F7410DC9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672B-7235-4BAD-8DB1-68F2888544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971640" y="2973240"/>
            <a:ext cx="7200720" cy="67644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2252520" y="3898800"/>
            <a:ext cx="46389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299880" y="1847880"/>
            <a:ext cx="8542440" cy="31622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332000" y="2421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389240" y="2952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332000" y="350028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1403280" y="4005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1332000" y="45226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2" descr=""/>
          <p:cNvPicPr/>
          <p:nvPr/>
        </p:nvPicPr>
        <p:blipFill>
          <a:blip r:embed="rId1"/>
          <a:stretch/>
        </p:blipFill>
        <p:spPr>
          <a:xfrm>
            <a:off x="473040" y="1200240"/>
            <a:ext cx="8199360" cy="529596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5122" descr=""/>
          <p:cNvPicPr/>
          <p:nvPr/>
        </p:nvPicPr>
        <p:blipFill>
          <a:blip r:embed="rId2"/>
          <a:stretch/>
        </p:blipFill>
        <p:spPr>
          <a:xfrm>
            <a:off x="2901960" y="2795760"/>
            <a:ext cx="2030400" cy="55872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5123" descr=""/>
          <p:cNvPicPr/>
          <p:nvPr/>
        </p:nvPicPr>
        <p:blipFill>
          <a:blip r:embed="rId3"/>
          <a:stretch/>
        </p:blipFill>
        <p:spPr>
          <a:xfrm>
            <a:off x="2871720" y="3471840"/>
            <a:ext cx="2478240" cy="55872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5124" descr=""/>
          <p:cNvPicPr/>
          <p:nvPr/>
        </p:nvPicPr>
        <p:blipFill>
          <a:blip r:embed="rId4"/>
          <a:stretch/>
        </p:blipFill>
        <p:spPr>
          <a:xfrm>
            <a:off x="2411280" y="4422600"/>
            <a:ext cx="1729080" cy="55908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5125" descr=""/>
          <p:cNvPicPr/>
          <p:nvPr/>
        </p:nvPicPr>
        <p:blipFill>
          <a:blip r:embed="rId5"/>
          <a:stretch/>
        </p:blipFill>
        <p:spPr>
          <a:xfrm>
            <a:off x="2411280" y="5646600"/>
            <a:ext cx="1297080" cy="55908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5126" descr=""/>
          <p:cNvPicPr/>
          <p:nvPr/>
        </p:nvPicPr>
        <p:blipFill>
          <a:blip r:embed="rId6"/>
          <a:stretch/>
        </p:blipFill>
        <p:spPr>
          <a:xfrm>
            <a:off x="4456080" y="5632560"/>
            <a:ext cx="17859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95400" y="824040"/>
            <a:ext cx="8953200" cy="52099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116000" y="53942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790560" y="1833480"/>
            <a:ext cx="7562880" cy="31910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130400" y="21621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1130400" y="31845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1201680" y="42069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7:50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